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260-3FC1-4C2E-8DA3-C6B75499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868-CB8B-4A1A-BE42-E33B282A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B413-9C2C-47BF-8ED3-A656F118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15F-850D-4C50-98AE-749EF038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DDE0-6C34-4EB8-BADF-FFB6DC61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A762-1AA6-4C48-A839-8081BEE0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BF5B-D3C6-4454-B8F6-6A6B004A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F36C-FE8B-490D-9494-5B564992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D475-8CD4-4058-ADAD-B709B13F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3E0E-658B-4935-BEA9-2BE6E2BD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7A57-2D54-4C94-9527-D922611A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DF6-9145-45BF-A003-2EF3C4D1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88A4-9909-4A8B-B856-7597B325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3FDC-6FAA-4CFD-AFE3-4836493F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D5FF-F70E-4ACE-AC9D-56B1390B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2484-56C8-476E-A70D-05762C1C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6F9D-9628-4972-8266-E596DC59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97F-1BC5-4AC2-A5F5-D0842122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897-87F3-4F3C-A988-9C8A0907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22E-086F-47EE-B714-A5B2CD3B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860-CE86-41A3-ABD3-0D548FEC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21EA-4B49-4E8C-8101-B279437D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CC0-6861-46E1-8591-78327682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5503-2973-4089-BAB6-4D2B21B5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7992-201B-4666-B12C-0E3096DA0B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5DCE-9B41-4744-B4D3-92DF2FD21BA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s.hofstra.edu/~sdoboli" TargetMode="External"/><Relationship Id="rId2" Type="http://schemas.openxmlformats.org/officeDocument/2006/relationships/hyperlink" Target="mailto:Simona.Doboli@hofstra.edu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aeaea"/>
                </a:solidFill>
                <a:latin typeface="Tahoma"/>
              </a:rPr>
              <a:t>Autonomous Navigation </a:t>
            </a:r>
            <a:br>
              <a:rPr sz="5000"/>
            </a:br>
            <a:r>
              <a:rPr b="1" lang="en-US" sz="5000" spc="-1" strike="noStrike">
                <a:solidFill>
                  <a:srgbClr val="eaeaea"/>
                </a:solidFill>
                <a:latin typeface="Tahoma"/>
              </a:rPr>
              <a:t>Workshop </a:t>
            </a:r>
            <a:endParaRPr b="1" lang="en-US" sz="5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-360" y="4419720"/>
            <a:ext cx="5257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mona Dobo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istant Profess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uter Science Depar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sftra Univer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ail: Simona.Doboli@hofstra.e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505320" y="2438280"/>
            <a:ext cx="525780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January 14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, 200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auppage High School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PBLI - FIR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4419720"/>
            <a:ext cx="4267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 McLe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gramming C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uppauge Team 3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rthrop Grumman Cor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.McLeod@ngc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257148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ase Study: Vex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4572000" cy="4330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202440" y="2895480"/>
            <a:ext cx="1676160" cy="228600"/>
          </a:xfrm>
          <a:prstGeom prst="leftArrow">
            <a:avLst>
              <a:gd name="adj1" fmla="val 50000"/>
              <a:gd name="adj2" fmla="val 18330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49080" y="1752480"/>
            <a:ext cx="18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-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7760" y="3657600"/>
            <a:ext cx="223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ltraso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ngefi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994600">
            <a:off x="1142640" y="4419720"/>
            <a:ext cx="1981080" cy="260280"/>
          </a:xfrm>
          <a:prstGeom prst="rightArrow">
            <a:avLst>
              <a:gd name="adj1" fmla="val 50000"/>
              <a:gd name="adj2" fmla="val 19028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7360" y="2362320"/>
            <a:ext cx="240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ngefin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994600">
            <a:off x="1371240" y="3276720"/>
            <a:ext cx="1981080" cy="260280"/>
          </a:xfrm>
          <a:prstGeom prst="rightArrow">
            <a:avLst>
              <a:gd name="adj1" fmla="val 50000"/>
              <a:gd name="adj2" fmla="val 19028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4320" y="5181480"/>
            <a:ext cx="177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0994600">
            <a:off x="1371240" y="5334120"/>
            <a:ext cx="1981080" cy="260280"/>
          </a:xfrm>
          <a:prstGeom prst="rightArrow">
            <a:avLst>
              <a:gd name="adj1" fmla="val 50000"/>
              <a:gd name="adj2" fmla="val 19028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ep Your Distance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ains a constant distance from an obstacle via ultrasonic &amp; IR rangefin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sets distance via potenti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 – power to the motors proportional to the error in d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tacle must be perpendicular to sensor to reflect ec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238880" y="304920"/>
            <a:ext cx="1676520" cy="1587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197240" y="5388120"/>
            <a:ext cx="1828800" cy="1469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132240" y="6427800"/>
            <a:ext cx="13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laroid 65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467480" y="152280"/>
            <a:ext cx="1676520" cy="1587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osed-Loop Feedback Ultrasonic Algorithm (P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2057400"/>
            <a:ext cx="1904760" cy="3808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Initial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3733920"/>
            <a:ext cx="205740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end Trigger Pu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4419720"/>
            <a:ext cx="205740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Listen &amp; time 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2971800"/>
            <a:ext cx="236196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ilter echo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84480" y="297180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imer / interrupt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286840" y="365760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077320" y="4648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8686800" y="44193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686800" y="34286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009920" y="34290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22860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10280" y="2286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41911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486400" y="41144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411480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21120" y="3505320"/>
            <a:ext cx="11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ru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3657600"/>
            <a:ext cx="3809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ompare requested distance to 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4343400"/>
            <a:ext cx="1828800" cy="838080"/>
          </a:xfrm>
          <a:prstGeom prst="flowChartDecision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Right Di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85320" y="45720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88760" y="457200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5486400"/>
            <a:ext cx="1295640" cy="53352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otor 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5486400"/>
            <a:ext cx="2362320" cy="60948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otor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distance error* K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33526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40384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81280" y="60958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85440" y="632448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6019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" y="312408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2286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2286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7920" y="5942160"/>
            <a:ext cx="285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In this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P=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tance error=1 to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676520" cy="1587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The Sensor Works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imer / Interrupt Proces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3633840" cy="3365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825440" y="2743200"/>
            <a:ext cx="426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gram requests a sonar pu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lse is set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gram is told pulse is s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gram is told when echo retur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lculate the time it t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it before requesting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191120" y="182880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99240" y="6324480"/>
            <a:ext cx="30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or Devantech SRF05 Rangefin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61640" y="655308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RF05 (1-150”)  $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ation slides a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www.cs.hofstra.edu/~sdobo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Team358.o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/Help please email u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Simona.Doboli@hofstra.e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Mark.McLeod@ngc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Hofstra University"/>
          <p:cNvPicPr/>
          <p:nvPr/>
        </p:nvPicPr>
        <p:blipFill>
          <a:blip r:embed="rId3"/>
          <a:stretch/>
        </p:blipFill>
        <p:spPr>
          <a:xfrm>
            <a:off x="1066680" y="3352680"/>
            <a:ext cx="2143080" cy="1400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553080" y="3581280"/>
            <a:ext cx="15242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20:56:50Z</dcterms:created>
  <dc:creator>Hofstra User</dc:creator>
  <dc:description/>
  <dc:language>en-US</dc:language>
  <cp:lastModifiedBy>Mark McLeod</cp:lastModifiedBy>
  <dcterms:modified xsi:type="dcterms:W3CDTF">2006-05-09T14:34:53Z</dcterms:modified>
  <cp:revision>222</cp:revision>
  <dc:subject/>
  <dc:title>Autonomous Navigation  Workshop</dc:title>
</cp:coreProperties>
</file>