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82C-F6AF-4A41-B7FF-CD35CA78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CF4-C501-4066-A94C-69B77DE5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77F-D4F1-4948-9EFA-20588429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1CF-2EFF-4DA9-BC9C-95D9860B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AB6F-181B-478C-A652-C1847AE3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C45C-253A-4882-8BC2-0032684D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77E9-8BD3-4E6F-BA9A-C1CAAA97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724C-F9CC-4BDF-945C-F3AC11B8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5DD8-61F8-44D8-92A7-FF703F09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50A5-D808-43F2-A3CE-CCB2FD32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EC02-6862-4192-AE50-0458F6AA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6EC-983F-4900-A9DB-B0853A56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2BB1-B91C-404D-A0D0-BFC76C2D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498F-F37B-401A-8405-63F8BD26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686E-A5C3-4255-BA97-C19F96F0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64F4-49A7-488F-9B31-8FF1581F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DF52-C6C9-417A-87C2-E3BCAD48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D2C-055F-4368-BBCD-5A5345FA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D9F-AC33-4D97-92DB-97A4791B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FA3-E952-4ED1-908E-5582315E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C44-D515-4450-ADC4-1A32C115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A022-A6D3-43D7-82E7-0EC8013C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90F-730B-4AD2-A433-1151E126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A3B-47E1-40F5-B8AA-4917DE1E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DB95-CF98-4A2D-9F44-911E87507DE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533A-277C-4B18-8DB0-7263DB939F9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s.hofstra.edu/~sdoboli" TargetMode="External"/><Relationship Id="rId2" Type="http://schemas.openxmlformats.org/officeDocument/2006/relationships/hyperlink" Target="mailto:Simona.Doboli@hofstra.edu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eaea"/>
                </a:solidFill>
                <a:latin typeface="Tahoma"/>
              </a:rPr>
              <a:t>Autonomous Navigation </a:t>
            </a:r>
            <a:br>
              <a:rPr sz="5000"/>
            </a:br>
            <a:r>
              <a:rPr b="1" lang="en-US" sz="5000" spc="-1" strike="noStrike">
                <a:solidFill>
                  <a:srgbClr val="eaeaea"/>
                </a:solidFill>
                <a:latin typeface="Tahoma"/>
              </a:rPr>
              <a:t>Workshop </a:t>
            </a:r>
            <a:endParaRPr b="1" lang="en-US" sz="5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-360" y="4419720"/>
            <a:ext cx="5257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ona Dob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stant Profess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uter Science Depar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sftra Univer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ail: Simona.Doboli@hofstra.e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2438280"/>
            <a:ext cx="52578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January 14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, 2006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auppage High School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SPBLI - FIR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4419720"/>
            <a:ext cx="4267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 McLe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amming C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uppauge Team 3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rthrop Grumman Cor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.McLeod@ngc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257148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ase Study: Vex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66880" y="2286000"/>
            <a:ext cx="4572000" cy="4330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202440" y="2895480"/>
            <a:ext cx="1676160" cy="228600"/>
          </a:xfrm>
          <a:prstGeom prst="leftArrow">
            <a:avLst>
              <a:gd name="adj1" fmla="val 50000"/>
              <a:gd name="adj2" fmla="val 18330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9080" y="1752480"/>
            <a:ext cx="18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-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77760" y="3657600"/>
            <a:ext cx="223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ltras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ngefin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994600">
            <a:off x="1142640" y="4419720"/>
            <a:ext cx="1981080" cy="260280"/>
          </a:xfrm>
          <a:prstGeom prst="rightArrow">
            <a:avLst>
              <a:gd name="adj1" fmla="val 50000"/>
              <a:gd name="adj2" fmla="val 19028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360" y="2362320"/>
            <a:ext cx="240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ngefin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994600">
            <a:off x="1371240" y="3276720"/>
            <a:ext cx="1981080" cy="260280"/>
          </a:xfrm>
          <a:prstGeom prst="rightArrow">
            <a:avLst>
              <a:gd name="adj1" fmla="val 50000"/>
              <a:gd name="adj2" fmla="val 19028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4320" y="5181480"/>
            <a:ext cx="177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0994600">
            <a:off x="1371240" y="5334120"/>
            <a:ext cx="1981080" cy="260280"/>
          </a:xfrm>
          <a:prstGeom prst="rightArrow">
            <a:avLst>
              <a:gd name="adj1" fmla="val 50000"/>
              <a:gd name="adj2" fmla="val 19028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ep Your Distance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intains a constant distance from an obstacle via ultrasonic &amp; IR rangefin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r sets distance via potenti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 – power to the motors proportional to the error in d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tacle must be perpendicular to sensor to reflect ech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676520" cy="1587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197240" y="5388120"/>
            <a:ext cx="1828800" cy="1469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132240" y="6427800"/>
            <a:ext cx="13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laroid 65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467480" y="152280"/>
            <a:ext cx="1676520" cy="1587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osed-Loop Feedback Ultrasonic Algorithm (P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2057400"/>
            <a:ext cx="1904760" cy="3808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Initial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3733920"/>
            <a:ext cx="205740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end Trigger Pu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4419720"/>
            <a:ext cx="205740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Listen &amp; time 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2971800"/>
            <a:ext cx="236196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lter echo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84480" y="2971800"/>
            <a:ext cx="286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mer / interrupt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286840" y="365760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077320" y="46483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8686800" y="44193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8686800" y="3428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009920" y="34290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22860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0280" y="2286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41911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486400" y="4114440"/>
            <a:ext cx="763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114800"/>
            <a:ext cx="457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21120" y="350532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657600"/>
            <a:ext cx="3809880" cy="3808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ompare requested distance to 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4343400"/>
            <a:ext cx="1828800" cy="838080"/>
          </a:xfrm>
          <a:prstGeom prst="flowChartDecision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Right Di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85320" y="45720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88760" y="457200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5486400"/>
            <a:ext cx="1295640" cy="53352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otor 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5486400"/>
            <a:ext cx="2362320" cy="609480"/>
          </a:xfrm>
          <a:prstGeom prst="flowChartProcess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otor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distance error* K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3352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40384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81280" y="60958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85440" y="632448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6019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85800" y="312408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31240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22860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2286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7920" y="5942160"/>
            <a:ext cx="285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* In this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KP=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stance error=1 to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676520" cy="1587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w The Sensor Works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imer / Interrupt Proc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3633840" cy="3365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825440" y="2743200"/>
            <a:ext cx="426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gram requests a sonar pu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lse is set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gram is told pulse is s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gram is told when echo retur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lculate the time it t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it before requesting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191120" y="182880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99240" y="6324480"/>
            <a:ext cx="302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or Devantech SRF05 Rangefin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61640" y="655308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RF05 (1-150”)  $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ation slides a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www.cs.hofstra.edu/~sdobo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Team358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/Help please email 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Simona.Doboli@hofstra.ed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</a:rPr>
              <a:t>Mark.McLeod@ngc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Hofstra University"/>
          <p:cNvPicPr/>
          <p:nvPr/>
        </p:nvPicPr>
        <p:blipFill>
          <a:blip r:embed="rId3"/>
          <a:stretch/>
        </p:blipFill>
        <p:spPr>
          <a:xfrm>
            <a:off x="1066680" y="3352680"/>
            <a:ext cx="2143080" cy="1400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6553080" y="3581280"/>
            <a:ext cx="152424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20:56:50Z</dcterms:created>
  <dc:creator>Hofstra User</dc:creator>
  <dc:description/>
  <dc:language>en-US</dc:language>
  <cp:lastModifiedBy>Mark McLeod</cp:lastModifiedBy>
  <dcterms:modified xsi:type="dcterms:W3CDTF">2006-05-09T14:34:53Z</dcterms:modified>
  <cp:revision>222</cp:revision>
  <dc:subject/>
  <dc:title>Autonomous Navigation  Workshop</dc:title>
</cp:coreProperties>
</file>