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B92-C083-4870-A248-00239628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13E-A2E1-4392-A476-006781FD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B3C0-3C8D-4C52-B9B7-9672D202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0A5-AF09-4432-ADC0-59C70C1B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8EA6-8635-45A9-A23C-FD83F58D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6B89-C0CC-47E1-9BF4-8E3676B6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E5A8-32CA-4CB7-8800-242A034C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4333-0210-4DD1-AB8B-6265DCD9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0762-3A9C-422A-AB99-AA6F86FE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565A-78E1-4AF3-98E7-D907E110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9FB0-5BF2-413A-9CD2-B9B29E34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EB8A-E1ED-4A21-B209-FA61E763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2224-A67C-4C96-AA12-95973AC3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8F75-859D-47E8-9C95-6A265030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009A-3508-4568-88D2-E71765F5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6FDF-C139-484B-A21A-0C6C0D60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1A8F-D4F6-48AA-AFEE-5AD579CA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A05-F120-4DF7-BC8A-042E07A9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A19-846D-4DC4-887C-0789155C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E65-21A8-4E74-BC7B-F6BB49BD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4EF-5180-491A-AB2E-307E93D0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B3B-AAF4-40DD-ABBC-7D9C7EDA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78A-B3EA-47AA-B5E2-96234589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3DF-2649-4F6E-A431-C040C48F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4CF7-72B0-4033-BF24-44BBD982BE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07E2-E12D-407F-A400-A69D33814D8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.hofstra.edu/~sdoboli" TargetMode="External"/><Relationship Id="rId2" Type="http://schemas.openxmlformats.org/officeDocument/2006/relationships/hyperlink" Target="mailto:Simona.Doboli@hofstra.edu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eaea"/>
                </a:solidFill>
                <a:latin typeface="Tahoma"/>
              </a:rPr>
              <a:t>Autonomous Navigation </a:t>
            </a:r>
            <a:br>
              <a:rPr sz="5000"/>
            </a:br>
            <a:r>
              <a:rPr b="1" lang="en-US" sz="5000" spc="-1" strike="noStrike">
                <a:solidFill>
                  <a:srgbClr val="eaeaea"/>
                </a:solidFill>
                <a:latin typeface="Tahoma"/>
              </a:rPr>
              <a:t>Workshop </a:t>
            </a:r>
            <a:endParaRPr b="1" lang="en-US" sz="5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-360" y="4419720"/>
            <a:ext cx="5257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ona Dob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stant Profess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uter Science Depar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sftra Univer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ail: Simona.Doboli@hofstra.e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2438280"/>
            <a:ext cx="52578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January 14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, 200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auppage High Schoo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PBLI - FIR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4419720"/>
            <a:ext cx="4267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 McLe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amming C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uppauge Team 3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rthrop Grumman Cor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.McLeod@ngc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257148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se Study: Vex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4572000" cy="4330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202440" y="2895480"/>
            <a:ext cx="1676160" cy="228600"/>
          </a:xfrm>
          <a:prstGeom prst="leftArrow">
            <a:avLst>
              <a:gd name="adj1" fmla="val 50000"/>
              <a:gd name="adj2" fmla="val 18330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9080" y="1752480"/>
            <a:ext cx="18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-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7760" y="3657600"/>
            <a:ext cx="223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ltras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ngefi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994600">
            <a:off x="1142640" y="4419720"/>
            <a:ext cx="1981080" cy="260280"/>
          </a:xfrm>
          <a:prstGeom prst="rightArrow">
            <a:avLst>
              <a:gd name="adj1" fmla="val 50000"/>
              <a:gd name="adj2" fmla="val 19028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360" y="2362320"/>
            <a:ext cx="240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ngefin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994600">
            <a:off x="1371240" y="3276720"/>
            <a:ext cx="1981080" cy="260280"/>
          </a:xfrm>
          <a:prstGeom prst="rightArrow">
            <a:avLst>
              <a:gd name="adj1" fmla="val 50000"/>
              <a:gd name="adj2" fmla="val 19028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4320" y="5181480"/>
            <a:ext cx="177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0994600">
            <a:off x="1371240" y="5334120"/>
            <a:ext cx="1981080" cy="260280"/>
          </a:xfrm>
          <a:prstGeom prst="rightArrow">
            <a:avLst>
              <a:gd name="adj1" fmla="val 50000"/>
              <a:gd name="adj2" fmla="val 19028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ep Your Distance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ains a constant distance from an obstacle via ultrasonic &amp; IR rangefin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sets distance via potenti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– power to the motors proportional to the error in d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tacle must be perpendicular to sensor to reflect ec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676520" cy="1587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197240" y="5388120"/>
            <a:ext cx="1828800" cy="1469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132240" y="6427800"/>
            <a:ext cx="13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laroid 65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467480" y="152280"/>
            <a:ext cx="1676520" cy="1587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osed-Loop Feedback Ultrasonic Algorithm (P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2057400"/>
            <a:ext cx="1904760" cy="3808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Initial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3733920"/>
            <a:ext cx="205740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end Trigger Pu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4419720"/>
            <a:ext cx="205740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Listen &amp; time 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2971800"/>
            <a:ext cx="236196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lter echo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84480" y="29718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mer / interrupt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286840" y="365760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077320" y="4648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8686800" y="4419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686800" y="3428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009920" y="34290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2860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0280" y="2286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41911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486400" y="41144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1148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21120" y="350532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657600"/>
            <a:ext cx="3809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ompare requested distance to 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4343400"/>
            <a:ext cx="1828800" cy="838080"/>
          </a:xfrm>
          <a:prstGeom prst="flowChartDecis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Right Di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85320" y="45720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88760" y="457200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5486400"/>
            <a:ext cx="1295640" cy="53352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otor 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5486400"/>
            <a:ext cx="2362320" cy="60948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otor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distance error* K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3352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4038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60958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85440" y="632448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6019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" y="312408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2286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2286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7920" y="5942160"/>
            <a:ext cx="28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In this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P=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tance error=1 to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676520" cy="1587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The Sensor Works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imer / Interrupt Proc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3633840" cy="3365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825440" y="2743200"/>
            <a:ext cx="426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gram requests a sonar pu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lse is se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gram is told pulse is s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gram is told when echo retur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lculate the time it t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it before requesting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191120" y="182880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99240" y="6324480"/>
            <a:ext cx="30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or Devantech SRF05 Rangefin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61640" y="655308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RF05 (1-150”)  $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ation slides a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www.cs.hofstra.edu/~sdobo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Team358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/Help please email 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Simona.Doboli@hofstra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Mark.McLeod@ngc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Hofstra University"/>
          <p:cNvPicPr/>
          <p:nvPr/>
        </p:nvPicPr>
        <p:blipFill>
          <a:blip r:embed="rId3"/>
          <a:stretch/>
        </p:blipFill>
        <p:spPr>
          <a:xfrm>
            <a:off x="1066680" y="3352680"/>
            <a:ext cx="2143080" cy="1400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553080" y="3581280"/>
            <a:ext cx="15242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20:56:50Z</dcterms:created>
  <dc:creator>Hofstra User</dc:creator>
  <dc:description/>
  <dc:language>en-US</dc:language>
  <cp:lastModifiedBy>Mark McLeod</cp:lastModifiedBy>
  <dcterms:modified xsi:type="dcterms:W3CDTF">2006-05-09T14:34:53Z</dcterms:modified>
  <cp:revision>222</cp:revision>
  <dc:subject/>
  <dc:title>Autonomous Navigation  Workshop</dc:title>
</cp:coreProperties>
</file>